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E0C1-0F41-4BA4-B789-FD29AF2B5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A81E-00CB-4D96-A550-D7AE7AD8C0D9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1F32-D0E4-4DF6-852F-4948594451E4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85DB-6422-46E7-B8BA-A3072AE8DCC5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7CFF-C8EB-4313-86CC-23C21AA6ECC5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DA33-0712-476B-B06D-4DE906F79E1B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EBB2-1FC8-4983-9CE2-87393C5CBAD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F101-8789-4B13-B058-D4ADC8BBADAD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AF7E-606F-4295-8CB8-0174CD929FA7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1EC1-3EED-43B7-855F-D4DBA40D578E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35FC-C71E-4875-B4DF-4AE67EA3432B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8D7B-1259-4838-8AD5-16A13A2746A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8477-C6EA-486B-AE3E-C7B1671BDAE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E793-D527-478F-9F61-DFCE4B923249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BE91-C4CF-4E52-A642-28710933F5B0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523D-7DA3-468A-B4C3-E5B4BD7572C7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BE41-D181-4ECB-9D83-1D8E9980A3B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CF38-CA5A-4AE0-8F6B-ADB06AFA332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45C6-DF50-4B2B-8C6F-3F71D0AC0250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45DE-8E00-4AC8-9DAE-A081529153F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59BA-F67F-44CA-AFF3-C91C5118445D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5494-FD3E-447F-8E44-B7ACDEAB27E4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2E19-DE5A-4C0B-A5BF-D6B0A54C0A1D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3C5F-02A4-4978-9DC7-E41E57418BA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DE01-17DD-48C5-8978-7FAB390AD38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6C5E-CF98-4BEB-B0E7-0743E8B95FF3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8CF2-C8D9-4042-B02B-39F9DF52C1A4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F705-4D33-4998-8D7D-E7A2FD3F8AF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21F4-D948-43D8-AD92-1F7F3CF0CABF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81A8-5E32-46E2-89E1-B53030FFD39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FDA5-A3FF-445E-9942-D913D15EE0A9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6B68-2F81-4986-940D-BB89CD5A577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04CA-0E9D-44B1-90A3-019AD065E9A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2940-694A-4A77-8E7E-90EDF059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E284-4645-40F5-834B-2B41D0AF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0958-3018-4181-A540-C5C338D2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ECE3-E328-40A6-BB91-F5027C0C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0FE6-CD81-47AB-B3CB-A5AB0C09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CD15-1FA1-4075-BA18-014FA59B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FEDB-D6DE-46F6-9B0D-2C90BD09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52F3-C7EB-49A4-8912-C09B54A0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8F51-DA83-4A2E-A438-DB8D5B94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EDA0-CEF2-4A48-9501-DAE6B68D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DA76-B44E-4961-8205-79A76F7B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2CE6-D00D-46E4-A136-4E82F543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66A8-59CA-411C-A7B8-FD966331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B148-2AD8-465D-99E6-C98D50AE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0DBC-76C4-4B4B-8FC1-27DEF683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FFFC-2532-4C00-A0EF-DEC09005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BE91-0F14-47BD-ADF1-AB10AD49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976A-76BB-47BF-8E2C-1D5ED8D3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811A-AF29-478D-87BA-18D30967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2C48-53C6-4B8E-917A-0136A756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BDE5-7DC8-4077-81AB-8E048D18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46BB-1723-4ADD-8B7A-508099F4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1E4F-ED52-4F6A-840C-011895EA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33C7-51BE-4F1A-8EFE-2C9B5B73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2C3E-C045-465A-8E97-9983C9F4E88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045B-835F-4E27-96BA-ED853848FD2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CONOMICS OF EDUC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P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INT OF DIMINISHING RETUR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YOU EXCEED THE MARGINAL DOLLAR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ACT ON ADEQUAC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IRTH R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RVI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FL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RRECTING INEQUA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AXPAYER REVO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PECT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MOGRAPHIC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BILITY TO TA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BILITY OF TA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NROLL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YPE OF SCHOOL YE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CIAL PROBLE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BIL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RITERIA FOR FINANCE PL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EQUA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QUITAB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SCAL NEUTRAL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APTABIL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URDEN OF TAX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GRESSIVE TA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PORTIONAL TA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ESS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ASURE OF SCHOOL DISTRICT WEAL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SESSED VALUE PER PUPI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SESSED VALUE PER CAPIT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ISTICAL: COMBINED ASSESSED VALUE WITH FAMILY INC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ALTH TA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TAL INC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URCES OF LOCAL REVENU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LE OF SERVI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 TAX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FI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ST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N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NES AND RECOVER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ARIABLES IN TAXATION SYSTE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METHING OF VALUE TO BE TAX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STABLISH A VALUE FOR TAX PURPO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TERMINE A RATE OF TAX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RUE MARKET VALU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STABLISHED BETWEEN WILLING BUYER AND SEL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ATE OF TAX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%=SALES TA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ENTS/HUNDRED=REAL E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LLS=I/10 OF ONE C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DUCATION IS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EDERAL CONC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E RESPOSIBIL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OCAL OPER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AL ESTA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SIDENTI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DUSTRI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GRICULTUR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MERCI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NUS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ANGIBLE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RSONAL PROPER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TANGIBLE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NEY REL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DVANTAGES OF REAL ESTATE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NDERSTANDAB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SILY COLLEC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GUL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IGHLY PRODUCT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SY TO SEE BENEFI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ES ADEQUATE INC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ISADVANTAGES OF REAL ESTATE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QUITABL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ROSION OF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STRIC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NRESPONSIVE TO ECONOMIC CHAN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GRESSIVE ON LOWER INC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AX EXEMP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DVANTAGES OF INCOME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AIR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SILY ADMINISTE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ISADVANTAGES OF INCOME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E-EMPTS OTHER TAX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ST PROGRESS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RD TO VISUAL OUTCOM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DVANTAGES OF SALES TAX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OOD SOURCE IN GOOD ECONOM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LL ACCEPTED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NSITIVE TO ECONOMIC GROW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ISADVANTAGES OF SALES TAX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NDS TO BE REGRESS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N BE EVA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PENDENT ON RETAI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OTTERI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HANGING EXPECTA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OCAL CONTROL OF MONI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VELOPMENTAL STAGES OF SCHOOL FINA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.  LOCAL RESPONSIBIL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I.  GRANTS AND ALLOCAT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II.  FOUNDATION PROGRAM CONCEP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V.  REFINEMENT OF FOUNDATION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.  EMERGING POWER EQUALIZ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ASIC ASSUMPTIONS OF STATE FUNDING SYSTE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LLARS CAN BE TRANSLATED INTO EDUCATIONAL EXPERIEN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GRAM COST ARE SAME ACROSS THE STA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ST OF FOUNDATION PROGRAMS ARE TO SHARED WITH LOCAL AGENC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ST BEYOND PROGRAM ARE FUNDED BY LOCAL AGENC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 EDUCATION A NECESSITY OR LUXURY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INANCIAL SOURC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EDERAL=INC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E =INCOME AND S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OCAL=REAL ESTATE OR ADD ON S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NATION</a:t>
            </a:r>
            <a:r>
              <a:rPr b="0" lang="en-US" sz="4400" spc="-1" strike="noStrike">
                <a:solidFill>
                  <a:srgbClr val="ebd189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 LARGEST INDUSTRY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CONOMIC IMPACT ON COMMUN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QU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EQUA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PROACHING EQUIT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LLARS PER STUD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EXPENDI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PECIAL PROGR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RGINAL TAX DOLLA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TERMINED BY THE VALUE OF SERVI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4:45:05Z</dcterms:created>
  <dc:creator>AEURY</dc:creator>
  <dc:description/>
  <dc:language>en-US</dc:language>
  <cp:lastModifiedBy>AEURY</cp:lastModifiedBy>
  <dcterms:modified xsi:type="dcterms:W3CDTF">2009-06-15T15:55:49Z</dcterms:modified>
  <cp:revision>3</cp:revision>
  <dc:subject/>
  <dc:title>ECONOMICS OF EDUCATION</dc:title>
</cp:coreProperties>
</file>